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7F0-3568-4E86-86CC-26D08F56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453-F955-44C0-906E-F0D1605F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805-D7DB-4843-A9E2-C16022F6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9F4-3436-4CB4-A28A-F1389EF8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E4E4-1C60-4EDE-89DE-A33F537E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538F-981C-471D-AE12-5B2A7A34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6013-E623-455C-B820-77AC221D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8132-E19D-429A-94BE-45FC94A1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93F9-5B1E-4BF6-9B79-76DE3AC6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36AE-025F-43DF-ADFF-0DC48468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AF93-50FA-4186-94AD-B9C01F9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73B-AAE7-4770-B7F6-9678EBA7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979B-CC19-42F9-895C-44A47BA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193B-9A89-430B-8983-FC57D6E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42C0-01A9-4CAF-A0BB-71F6F4E3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1E6F-BF39-4B96-BAD8-6DB98F5E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2ED6-AAD0-4251-97E0-014AD147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5BF-8EB3-41F1-AE0C-A0A0EC67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53F-D4F3-4B97-BF37-F3E02B22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188-ED91-4D5E-AF73-A241A2DB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2C6-5F7A-4F1B-946E-0AAA372D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31D-6893-4272-BB75-A146ED7A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001-C2A0-48F2-B61D-7E95967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010-55DA-4B5E-BE57-DFE5FDF1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7DE4-2FA1-426B-BFED-40F41A6B68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74C5-8E87-4D9B-8C03-D25DFF356F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-262080" y="738360"/>
            <a:ext cx="96379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ь, врач, дочь, плащ, помощь, малыш, ночь, товарищ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AutoShape 4"/>
          <p:cNvCxnSpPr/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" name="AutoShape 4"/>
          <p:cNvCxnSpPr/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0" y="-274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. 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 до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помо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но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9" name="AutoShape 4"/>
          <p:cNvCxnSpPr/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0" y="-3160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. 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 до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помо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но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0" y="162864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. 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ла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лы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това-ри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08:52Z</dcterms:created>
  <dc:creator>ALTECH</dc:creator>
  <dc:description/>
  <dc:language>en-US</dc:language>
  <cp:lastModifiedBy>Пользователь</cp:lastModifiedBy>
  <dcterms:modified xsi:type="dcterms:W3CDTF">2024-10-30T21:38:51Z</dcterms:modified>
  <cp:revision>55</cp:revision>
  <dc:subject/>
  <dc:title>Сценарий  урока  русского  языка .   3  класс.</dc:title>
</cp:coreProperties>
</file>